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77258-89E1-4585-8D0B-4B6338031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C1A98-E4E3-4CA9-8A0A-DBC872AF8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E0E41-2853-4799-BFDD-9FAAD0521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31388-8AF4-4D50-86CF-BA2D41AE8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99262-11F1-4A54-A37A-F4A3E8845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2BBB9-1946-4E4E-B6BD-F6C900C32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A267A-C75F-4BB7-98A6-904942DFC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7F618-7386-4550-83AB-E31098529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C5F01-ADA7-4D11-B0BF-80AE3BBB0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44563-09CF-4561-BA3A-2D316093E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BA4FF-4033-440C-BC65-CCA741E78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BAA41-5F5E-46D1-B89E-B3A7C71F4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3B84B-8756-4D8D-BF2C-50E72FA0F9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apter 5 – India Vocabul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r name and a picture goes he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5387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contin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219320" y="22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large landmass that is part of a continent but distinct from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2905200" y="1514520"/>
            <a:ext cx="333360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5387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contin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219320" y="22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large landmass that is part of a continent but distinct from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2905200" y="1514520"/>
            <a:ext cx="333360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5387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contin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219320" y="22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large landmass that is part of a continent but distinct from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2905200" y="1514520"/>
            <a:ext cx="333360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480" y="5387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contin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219320" y="22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large landmass that is part of a continent but distinct from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2905200" y="1514520"/>
            <a:ext cx="333360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5387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contin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219320" y="22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large landmass that is part of a continent but distinct from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2905200" y="1514520"/>
            <a:ext cx="333360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5387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contin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219320" y="22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large landmass that is part of a continent but distinct from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2905200" y="1514520"/>
            <a:ext cx="333360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480" y="5387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contin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219320" y="22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large landmass that is part of a continent but distinct from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2905200" y="1514520"/>
            <a:ext cx="333360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5387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contin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219320" y="22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large landmass that is part of a continent but distinct from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2905200" y="1514520"/>
            <a:ext cx="333360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480" y="5387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contin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219320" y="22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large landmass that is part of a continent but distinct from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2905200" y="1514520"/>
            <a:ext cx="333360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8T15:45:15Z</dcterms:created>
  <dc:creator>poweruser</dc:creator>
  <dc:description/>
  <dc:language>en-US</dc:language>
  <cp:lastModifiedBy>poweruser</cp:lastModifiedBy>
  <dcterms:modified xsi:type="dcterms:W3CDTF">2011-11-28T15:51:10Z</dcterms:modified>
  <cp:revision>1</cp:revision>
  <dc:subject/>
  <dc:title>Chapter 5 – India Vocabulary</dc:title>
</cp:coreProperties>
</file>